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0E6C1-BA11-4886-B13B-EC64F08552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9D309-E99D-408D-8A4F-748675A4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6F7B7-FF20-4330-806F-F6299436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A35C7-474F-4546-A71F-E2F5286C15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35AC1-EE88-4187-B91A-548E93B9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ECCC3-C122-4E4C-BCE9-4607649F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B95E3-C08F-4599-ACBA-0EDA79D6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0D370-ACD6-40B9-BEBF-268A5638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35E66-BB2E-4242-AC80-3348C131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87AA-1A6C-4D41-8E45-5E9FAA55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888EF-E013-4768-9DD1-092059CE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241BE-519D-4841-9097-A9454BB0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B71C-B141-4E70-B410-72185A40B7A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NDPOP.WAV" TargetMode="External"/><Relationship Id="rId2" Type="http://schemas.openxmlformats.org/officeDocument/2006/relationships/hyperlink" Target="file:///tmp/home/.config/libreoffice/4/user/gallery/ENDPOP.WAV" TargetMode="External"/><Relationship Id="rId3" Type="http://schemas.openxmlformats.org/officeDocument/2006/relationships/hyperlink" Target="file:///tmp/home/.config/libreoffice/4/user/gallery/ENDPOP.WAV" TargetMode="External"/><Relationship Id="rId4" Type="http://schemas.openxmlformats.org/officeDocument/2006/relationships/hyperlink" Target="file:///tmp/home/.config/libreoffice/4/user/gallery/ENDPOP.WAV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二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抗菌药物概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细菌耐药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68000" y="1844280"/>
            <a:ext cx="6626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作用靶位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胞质膜通透性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外排系统功能增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代谢途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69840" y="1915920"/>
            <a:ext cx="5473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的常用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细菌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1803240" y="378936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2556000" y="436572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6360" y="1371240"/>
            <a:ext cx="74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常用术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作用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耐药性产生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5D56-C006-44D9-8F13-2E5D75835A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988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微生物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ntimicrobial drug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用于治疗病原微生物所致感染性疾病的药物，包括抗菌药、抗真菌药、抗病毒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药：抗微生物药、抗寄生虫药和抗恶性肿瘤药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chemotherap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对微生物或寄生虫感染及恶性肿瘤的药物治疗，简称化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332000" y="1120680"/>
            <a:ext cx="65516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7128-F109-4D2B-BFB7-A1864FDAC1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抗菌药物的常用术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iotic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spectrum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抑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ostatic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杀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cidal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活性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activity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后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ost antibiotic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A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首次接触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first expose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化疗指数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hemotherapeutic index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I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以化疗药物的半数致死量和半数有效量的比值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来表示，化疗指数愈大，表明该药物的毒性越小，临床应用的价值越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914560" y="283860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细菌胞浆膜的通透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2592360" y="5445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1871640" y="3890880"/>
            <a:ext cx="762120" cy="665280"/>
            <a:chOff x="1871640" y="3890880"/>
            <a:chExt cx="762120" cy="665280"/>
          </a:xfrm>
        </p:grpSpPr>
        <p:sp>
          <p:nvSpPr>
            <p:cNvPr id="131" name="AutoShape 5"/>
            <p:cNvSpPr/>
            <p:nvPr/>
          </p:nvSpPr>
          <p:spPr>
            <a:xfrm>
              <a:off x="1878120" y="3902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6"/>
            <p:cNvSpPr/>
            <p:nvPr/>
          </p:nvSpPr>
          <p:spPr>
            <a:xfrm>
              <a:off x="1871640" y="3890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7">
              <a:hlinkClick r:id="rId1"/>
            </p:cNvPr>
            <p:cNvSpPr/>
            <p:nvPr/>
          </p:nvSpPr>
          <p:spPr>
            <a:xfrm>
              <a:off x="1916280" y="393048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50000">
                  <a:srgbClr val="8ac8de"/>
                </a:gs>
                <a:gs pos="100000">
                  <a:srgbClr val="405d67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3774960" y="211608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2592360" y="4437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197160" y="3916440"/>
            <a:ext cx="342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916360" y="177336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细胞壁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二节  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1908000" y="2852640"/>
            <a:ext cx="762120" cy="665280"/>
            <a:chOff x="1908000" y="2852640"/>
            <a:chExt cx="762120" cy="665280"/>
          </a:xfrm>
        </p:grpSpPr>
        <p:sp>
          <p:nvSpPr>
            <p:cNvPr id="140" name="AutoShape 15"/>
            <p:cNvSpPr/>
            <p:nvPr/>
          </p:nvSpPr>
          <p:spPr>
            <a:xfrm>
              <a:off x="1914480" y="28638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16"/>
            <p:cNvSpPr/>
            <p:nvPr/>
          </p:nvSpPr>
          <p:spPr>
            <a:xfrm>
              <a:off x="1908000" y="2852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7">
              <a:hlinkClick r:id="rId2"/>
            </p:cNvPr>
            <p:cNvSpPr/>
            <p:nvPr/>
          </p:nvSpPr>
          <p:spPr>
            <a:xfrm>
              <a:off x="1952640" y="289224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Line 18"/>
          <p:cNvSpPr/>
          <p:nvPr/>
        </p:nvSpPr>
        <p:spPr>
          <a:xfrm>
            <a:off x="2664000" y="2421000"/>
            <a:ext cx="4213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1908000" y="1827360"/>
            <a:ext cx="762120" cy="664560"/>
            <a:chOff x="1908000" y="1827360"/>
            <a:chExt cx="762120" cy="664560"/>
          </a:xfrm>
        </p:grpSpPr>
        <p:sp>
          <p:nvSpPr>
            <p:cNvPr id="145" name="AutoShape 20"/>
            <p:cNvSpPr/>
            <p:nvPr/>
          </p:nvSpPr>
          <p:spPr>
            <a:xfrm>
              <a:off x="1914480" y="1838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1"/>
            <p:cNvSpPr/>
            <p:nvPr/>
          </p:nvSpPr>
          <p:spPr>
            <a:xfrm>
              <a:off x="1908000" y="1827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2">
              <a:hlinkClick r:id="rId3"/>
            </p:cNvPr>
            <p:cNvSpPr/>
            <p:nvPr/>
          </p:nvSpPr>
          <p:spPr>
            <a:xfrm>
              <a:off x="1952640" y="186660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8" name="Line 23"/>
          <p:cNvSpPr/>
          <p:nvPr/>
        </p:nvSpPr>
        <p:spPr>
          <a:xfrm>
            <a:off x="2592360" y="3429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27520" y="386064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蛋白质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2916360" y="4843440"/>
            <a:ext cx="36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核酸及叶酸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27"/>
          <p:cNvGrpSpPr/>
          <p:nvPr/>
        </p:nvGrpSpPr>
        <p:grpSpPr>
          <a:xfrm>
            <a:off x="1938240" y="4869000"/>
            <a:ext cx="762120" cy="664560"/>
            <a:chOff x="1938240" y="4869000"/>
            <a:chExt cx="762120" cy="664560"/>
          </a:xfrm>
        </p:grpSpPr>
        <p:sp>
          <p:nvSpPr>
            <p:cNvPr id="152" name="AutoShape 28"/>
            <p:cNvSpPr/>
            <p:nvPr/>
          </p:nvSpPr>
          <p:spPr>
            <a:xfrm>
              <a:off x="1944720" y="487980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29"/>
            <p:cNvSpPr/>
            <p:nvPr/>
          </p:nvSpPr>
          <p:spPr>
            <a:xfrm>
              <a:off x="1938240" y="486900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30">
              <a:hlinkClick r:id="rId4"/>
            </p:cNvPr>
            <p:cNvSpPr/>
            <p:nvPr/>
          </p:nvSpPr>
          <p:spPr>
            <a:xfrm>
              <a:off x="1982880" y="490824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84360" y="1162080"/>
            <a:ext cx="784836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细菌耐药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7480" y="1499760"/>
            <a:ext cx="759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cterial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细菌对抗菌药不敏感的现象。可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固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insic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获得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quired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交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oss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重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-drug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F434-4EAE-4178-8A96-58EE8B03E9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26:29Z</dcterms:modified>
  <cp:revision>62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